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click.wav" ContentType="audio/x-wav"/>
  <Override PartName="/ppt/media/image7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D916-D689-4F9B-BA9F-FC4CD81BEA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egnaposto numero diapositiva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E8FD-2F8B-4DD4-A17E-FE9388D8D6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B02-349A-4D81-8591-006C5836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A74-D77E-4D45-9A11-35CE591E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B2626-F9D9-4CB4-9A72-2F5F4ED4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C530F-E9E6-48BC-94F1-35280F2F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95621-AEBF-47F4-BF78-F8DFEA63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831AD-E119-4E01-9345-EF7E3479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33655-31D0-4701-B2CE-CB074C1E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78D09-A915-46C6-A2CE-EF5F2794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86BD7-D5D7-475A-8187-79970137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46AA1-BFEE-4AE6-8692-311FE948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6901C-93A9-4394-8345-AEA78869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FD23A-AC9D-43B5-B955-8572AB2C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407-003B-47C3-A457-9DA59794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4F7EF-3DF6-408E-BE73-65B1CE41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6E18E-C962-4BC1-B7E2-30ABB52E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4C955-DEF3-430F-BEA6-3E74C785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3BC72-8EE7-490C-A40A-525FE4ED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31F73-1E92-452E-AD16-EDD51C97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0973D-021E-4A41-B4B3-3008D63D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871E1-450E-4FBC-9BD1-F08CFA70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FB041-EDC8-4512-8FCA-A796DC34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9CA5B-BB75-458C-B9D5-05B4FB20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2C968-CDD6-4F14-80D9-04A471C0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18A-FD74-4E26-98F0-D7D757FA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7C626-DAE8-4C4D-B749-2EA3D3F8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23A72-C861-4899-992A-044A036D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CA530-64EB-4453-9B4F-43E98E9D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93ED5-0924-4B52-A72E-3A4BB437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99915-3E01-4DCF-8580-A3D659D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5C6E6-48D3-4E3E-8AD8-1BAB68E7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D7055-81ED-49C8-A0FC-6392408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28FE6-709B-4F8E-9482-50D9907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D4B5F-29DD-4477-9BED-E7BF00EF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40C71-4E04-40DE-9A56-BA94397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8781-95B9-4C4B-9E4B-BC21CAEE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CF923-A2E0-4F5C-90DE-37FC2C28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1D322-C24C-4ABF-9861-A12C2ACB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E79F7-2926-4D23-9599-8C537858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8BA7C-E3B2-4BCC-8A42-2367B523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C6E12-3D45-4797-9EA5-542ABB1C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B2A81-E52B-4848-8152-754C0409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176D9-A68A-41CB-BF6A-A84396E1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EAB59-6D66-4C00-B9DF-108A1444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24C05-DF22-4F7C-86C1-769F493F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DC8FF-CBEC-4AD3-9ADF-75D33E9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872C-9432-4210-8A9C-27B563A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6FCCB-8456-49BF-BE54-13610DA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4CBB4-2560-4BFC-98EB-B93E8DD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6440B-BD58-418E-A2DF-BA52AC09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16E72-48C9-4AFC-932F-A0E23598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1384D-5CF0-44B5-A337-AB6BC047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78CA-67B3-4281-99BB-2C5AF3CF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E1FA-1564-4F4A-8540-3341A7EA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CA7D-C4D0-459B-847F-DB4ABAB2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B9C4-B152-4DB7-BFF8-9495C6DA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2137-BE7A-4E56-A3BE-B646D71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E4B-F86C-4CDC-BB97-E332EE27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2099-3BBC-48CD-ABDD-94E5043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89DE-7E41-424E-9568-3465294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144B-463F-41F8-A7FE-7C6B58B3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8A9D-D505-45FA-8490-FDD1F03E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7FCC-720C-40FC-803D-F3F847B0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33A2-729A-45FA-A168-139EA59B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BB49-CA8A-4FCF-A168-A0B00F9E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6557-0D1C-4C1B-9FF2-B88C94C1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18F2-5678-4B63-965F-1364C917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B04E-B881-4AB1-AC7C-2A46F159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4CF-0B63-4D89-8697-707CE631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AC0F-C480-4FFA-B475-0C827026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D870-30F4-4817-97B4-67B1A068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D355-1681-4B94-B779-18DD8555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77EA-C2DE-407D-B53C-7B1B7BD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6BD0-684F-4056-BF0F-58898892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42C1-ABE2-4993-93C3-1CE4F2D2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E994-D152-4E67-A970-103F7E43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D3EF-7DF4-47DB-B21C-08DDA3A6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B381-6AC9-4789-A91A-26104B70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F7D7-3DA2-48C5-846F-6ED7B50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31D-6634-4C81-AC36-F0745BBA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4D6E-8838-4453-94C5-7296D8F0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EEA3-09FA-4255-B307-85DE6A94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7D0FF-53F7-4D73-ABA6-EC2B87A8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153A-46AC-4539-AA65-471436B8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068D-DBF9-4F9F-8EAD-C3A202B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9328-39E0-4712-B81F-80906A2D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011C3-A551-4983-AAEB-E0D74465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94EE-F817-46A7-8C94-2A4F948D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9DE69-3F68-4E74-8FDA-D1981025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540C3-69DF-46F1-B958-6D65201D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70A-4726-45ED-82F7-CD3E15FB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B5CB-7DF2-45E6-AFD1-0FCC8857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9B6C-2641-403A-A31F-E1F4B54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593CB-B8B8-432D-A6AB-53A07C55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B7C90-63D9-4B9F-8C93-A1CE7910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59F38-8438-4D25-8A2B-3155569B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7C8A-2472-4F78-99C9-C74BA29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5CA0-00A4-4D0C-B938-13B9A129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4C06-EC0F-47D1-8AA5-ACE2B930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B3ECB-23FF-49C0-ABEF-F57FFCFE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AB087-496E-4A03-A81F-585204B5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DF8-243F-4F3E-93C4-AEBF778D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859D-40B0-479A-B993-0C9BE976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EE0D1-9D73-45F3-A067-D14970F4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056B-20A5-44DC-BBF7-4D46C438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636CA-7FA7-49A7-AFE7-D0D4DCE1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73403-15D3-4315-AC3E-1CA9125E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A6C76-28C0-44E1-A463-06AA762E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E88E6-0D29-4FB1-B85B-0893B42F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26631-C6D6-48B3-98B3-E3B508AB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3BC6-FEAC-4689-B8CF-B1EFF147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AC00-FB99-4088-9A08-44EDFA92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72D-8BEF-406F-A863-FCF70849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79A81-4C52-4774-81E8-354D52A7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0FE4F-F48B-4F34-A85B-CC85A6CF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E30D1-346F-4310-844C-AECA784F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D8D9B-7C03-46E1-92FC-3E8AEAB4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53A22-8868-4C86-B8BC-3BD0730D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105D5-5D7D-4721-ACB4-CDC5BC29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FACA2-90EE-4569-A516-9F920EA6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4554-BD4E-408C-9560-6AAD57D2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7E3FE-6E66-440B-9844-80A754E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E3DBA-10B4-489A-A1C7-3E6EE0F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9A4-5FAD-45E2-8FBE-776D335F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72BC-1907-462D-9B9E-BB6015F3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FCB8-54A1-4F13-8AFC-C3AA8ADE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E4A09-09B7-4A48-9799-8FB22F94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F6FEB-986A-4CD8-920C-E6232F4A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4F45-8B60-4658-A0F2-D6513000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AF826-C51F-4986-9D0C-9A4553B5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06EB5-0352-4B39-B903-675D5187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A37AC-A398-48F8-A1DF-95F07F2A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6E150-84B4-4459-B44C-D987710F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78B71-D996-4557-A0C7-827B48A9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B24-1074-4555-8F46-E75515A1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5170B-BD21-481E-94C0-F3DF6BF8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3FA57-64A3-4EA0-BC0E-F8CBDD36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63AAF-D292-47CF-9B1A-3658DBB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960B8-0E17-4DEB-9AAF-8142A88B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DDC9C-EE86-43F8-974B-FE2DDCF8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05E62-1145-4FBB-B8C5-9D019C8B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15664-5EB3-4610-AF6C-C0B240CA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421CD-B472-44DF-8240-C1657427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BC5AC-CAFD-4B93-8660-C75F6BAA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3E043-34F3-48FF-B14A-B248D10D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1ABD-41BC-4417-AB45-41CAAF22A80F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nettore 1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ttangolo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ttango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ttangolo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ttangolo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ttangolo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e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e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ttangolo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A4A6-2B27-4BE2-B3B3-452C95CF1C6B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C9FD-0104-43E8-8D9F-402C4C551370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ttangolo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ttangolo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onnettore 1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e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e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75A5-5C91-4151-AE71-35F8390B529D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ttangolo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e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EDFE-6150-484A-98DB-B8AA4CD00E21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BF4C-756A-484B-8548-D96DF3BC2646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tangolo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tangolo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tangolo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tangolo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e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e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28F-B51B-41FC-8ED6-B3EB49B92682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nettore 1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0AED-46A1-435A-8A10-6FFCB8418839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nettore 1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ttangolo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ttangolo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ttangolo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tangolo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ttore 1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ttangolo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e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e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DF49-56F4-4CE3-A238-417DD43CFC04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807D-9C0A-4A70-AB33-6A6E71DEACA2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ttangolo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ttangolo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B100-AC6B-4DC2-B182-5E22F48E40EA}" type="slidenum">
              <a:rPr b="0" lang="it-IT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ttangolo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tangolo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ttango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ttangolo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ttangolo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nettore 1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e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e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ttangolo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E7FB-842E-4CA4-A06C-8379BCA6A413}" type="slidenum">
              <a:rPr b="0" lang="it-IT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46b86"/>
                </a:solidFill>
                <a:latin typeface="Georgia"/>
              </a:rPr>
              <a:t>QUATTRO CITTÀ ITALIAN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46b86"/>
                </a:solidFill>
                <a:latin typeface="Georgia"/>
              </a:rPr>
              <a:t>TRA GUERRA E COMMERCI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d16349"/>
                </a:solidFill>
                <a:latin typeface="Georgia"/>
              </a:rPr>
              <a:t>Le repubbliche marinar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3357720" y="3571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itolo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L’espansione di Genov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5" descr="Espansione_di_Genova"/>
          <p:cNvPicPr/>
          <p:nvPr/>
        </p:nvPicPr>
        <p:blipFill>
          <a:blip r:embed="rId1"/>
          <a:stretch/>
        </p:blipFill>
        <p:spPr>
          <a:xfrm>
            <a:off x="395280" y="1341360"/>
            <a:ext cx="8389800" cy="5122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Venezi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CasellaDiTesto 6"/>
          <p:cNvSpPr/>
          <p:nvPr/>
        </p:nvSpPr>
        <p:spPr>
          <a:xfrm>
            <a:off x="142920" y="1357200"/>
            <a:ext cx="8715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La più importante repub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marinara fu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Venezia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in Veneto; 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ebbe stretti legami con l’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Impero bizantino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dominò fino al XVI secolo il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mare Adriatico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e i commerci nel Mediterraneo orient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si espanse anche sulla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terraferma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(Veneto, Friuli e Venezia Giulia, Lombardia orientale, Istria e Dalmaz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5214960" y="1428840"/>
            <a:ext cx="371484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lick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1000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1000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1000"/>
                                        <p:tgtEl>
                                          <p:spTgt spid="6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Repubblica_di_Venezia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075280"/>
          </a:xfrm>
          <a:prstGeom prst="rect">
            <a:avLst/>
          </a:prstGeom>
          <a:ln w="0">
            <a:noFill/>
          </a:ln>
        </p:spPr>
      </p:pic>
      <p:sp>
        <p:nvSpPr>
          <p:cNvPr id="647" name="Titolo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Venezia nel Mediterrane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Quattro domande per inizi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Picture 2" descr="C:\Documents and Settings\Emanuele\Impostazioni locali\Temporary Internet Files\Content.IE5\KP8PU709\MPj04394070000[1]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25480" cy="2828880"/>
          </a:xfrm>
          <a:prstGeom prst="rect">
            <a:avLst/>
          </a:prstGeom>
          <a:ln w="0">
            <a:noFill/>
          </a:ln>
        </p:spPr>
      </p:pic>
      <p:sp>
        <p:nvSpPr>
          <p:cNvPr id="650" name="CasellaDiTesto 4"/>
          <p:cNvSpPr/>
          <p:nvPr/>
        </p:nvSpPr>
        <p:spPr>
          <a:xfrm>
            <a:off x="214200" y="2286000"/>
            <a:ext cx="8929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Quali sono le repubbliche marin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os’è una repubblica marina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osa sono le Tavole Amalfit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Quale fu la repubblica marinara più import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lick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Quattro domande per inizi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Picture 2" descr="C:\Documents and Settings\Emanuele\Impostazioni locali\Temporary Internet Files\Content.IE5\KP8PU709\MPj04394070000[1]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25480" cy="2828880"/>
          </a:xfrm>
          <a:prstGeom prst="rect">
            <a:avLst/>
          </a:prstGeom>
          <a:ln w="0">
            <a:noFill/>
          </a:ln>
        </p:spPr>
      </p:pic>
      <p:sp>
        <p:nvSpPr>
          <p:cNvPr id="618" name="CasellaDiTesto 4"/>
          <p:cNvSpPr/>
          <p:nvPr/>
        </p:nvSpPr>
        <p:spPr>
          <a:xfrm>
            <a:off x="214200" y="2286000"/>
            <a:ext cx="8929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Quali sono le repubbliche marin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os’è una repubblica marina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osa sono le Tavole Amalfit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Quale fu la repubblica marinara più import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Le repubbliche marin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CasellaDiTesto 2"/>
          <p:cNvSpPr/>
          <p:nvPr/>
        </p:nvSpPr>
        <p:spPr>
          <a:xfrm>
            <a:off x="214200" y="1928880"/>
            <a:ext cx="871560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La </a:t>
            </a:r>
            <a:r>
              <a:rPr b="0" lang="it-IT" sz="2600" spc="-1" strike="noStrike">
                <a:solidFill>
                  <a:srgbClr val="d16349"/>
                </a:solidFill>
                <a:latin typeface="Georgia"/>
              </a:rPr>
              <a:t>rinascita dei commerci 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che caratterizzò l’XI sec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fu anticipata da quattro città itali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asellaDiTesto 3"/>
          <p:cNvSpPr/>
          <p:nvPr/>
        </p:nvSpPr>
        <p:spPr>
          <a:xfrm>
            <a:off x="285840" y="3071880"/>
            <a:ext cx="2286000" cy="489960"/>
          </a:xfrm>
          <a:prstGeom prst="rect">
            <a:avLst/>
          </a:prstGeom>
          <a:noFill/>
          <a:ln w="9360">
            <a:solidFill>
              <a:srgbClr val="d163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Amal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asellaDiTesto 4"/>
          <p:cNvSpPr/>
          <p:nvPr/>
        </p:nvSpPr>
        <p:spPr>
          <a:xfrm>
            <a:off x="2143080" y="3857760"/>
            <a:ext cx="2286000" cy="489960"/>
          </a:xfrm>
          <a:prstGeom prst="rect">
            <a:avLst/>
          </a:prstGeom>
          <a:noFill/>
          <a:ln w="9360">
            <a:solidFill>
              <a:srgbClr val="d163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P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sellaDiTesto 5"/>
          <p:cNvSpPr/>
          <p:nvPr/>
        </p:nvSpPr>
        <p:spPr>
          <a:xfrm>
            <a:off x="4714920" y="3857760"/>
            <a:ext cx="2286000" cy="489960"/>
          </a:xfrm>
          <a:prstGeom prst="rect">
            <a:avLst/>
          </a:prstGeom>
          <a:noFill/>
          <a:ln w="9360">
            <a:solidFill>
              <a:srgbClr val="d163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Geno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CasellaDiTesto 6"/>
          <p:cNvSpPr/>
          <p:nvPr/>
        </p:nvSpPr>
        <p:spPr>
          <a:xfrm>
            <a:off x="6572160" y="3071880"/>
            <a:ext cx="2286000" cy="489960"/>
          </a:xfrm>
          <a:prstGeom prst="rect">
            <a:avLst/>
          </a:prstGeom>
          <a:noFill/>
          <a:ln w="9360">
            <a:solidFill>
              <a:srgbClr val="d163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Venez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CasellaDiTesto 7"/>
          <p:cNvSpPr/>
          <p:nvPr/>
        </p:nvSpPr>
        <p:spPr>
          <a:xfrm>
            <a:off x="214200" y="5214960"/>
            <a:ext cx="871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orgia"/>
              </a:rPr>
              <a:t>Le quattro </a:t>
            </a:r>
            <a:r>
              <a:rPr b="0" lang="it-IT" sz="3000" spc="-1" strike="noStrike">
                <a:solidFill>
                  <a:srgbClr val="d16349"/>
                </a:solidFill>
                <a:latin typeface="Georgia"/>
              </a:rPr>
              <a:t>repubbliche marin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Cosa sono le repubbliche marinar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Si tratta di </a:t>
            </a:r>
            <a:r>
              <a:rPr b="0" lang="it-IT" sz="2700" spc="-1" strike="noStrike">
                <a:solidFill>
                  <a:srgbClr val="a9432b"/>
                </a:solidFill>
                <a:latin typeface="Georgia"/>
              </a:rPr>
              <a:t>città indipendenti 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dotate di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una propria </a:t>
            </a:r>
            <a:r>
              <a:rPr b="0" lang="it-IT" sz="2600" spc="-1" strike="noStrike">
                <a:solidFill>
                  <a:srgbClr val="a9432b"/>
                </a:solidFill>
                <a:latin typeface="Georgia"/>
              </a:rPr>
              <a:t>moneta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 accettata in tutto il Mediterraneo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una propria </a:t>
            </a:r>
            <a:r>
              <a:rPr b="0" lang="it-IT" sz="2600" spc="-1" strike="noStrike">
                <a:solidFill>
                  <a:srgbClr val="a9432b"/>
                </a:solidFill>
                <a:latin typeface="Georgia"/>
              </a:rPr>
              <a:t>flotta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, commerciale e da guerra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uno o più </a:t>
            </a:r>
            <a:r>
              <a:rPr b="0" lang="it-IT" sz="2600" spc="-1" strike="noStrike">
                <a:solidFill>
                  <a:srgbClr val="a9432b"/>
                </a:solidFill>
                <a:latin typeface="Georgia"/>
              </a:rPr>
              <a:t>fondachi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, magazzini e alloggi per i mercanti stranieri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un corpo di </a:t>
            </a:r>
            <a:r>
              <a:rPr b="0" lang="it-IT" sz="2600" spc="-1" strike="noStrike">
                <a:solidFill>
                  <a:srgbClr val="a9432b"/>
                </a:solidFill>
                <a:latin typeface="Georgia"/>
              </a:rPr>
              <a:t>consoli</a:t>
            </a:r>
            <a:r>
              <a:rPr b="0" lang="it-IT" sz="2600" spc="-1" strike="noStrike">
                <a:solidFill>
                  <a:srgbClr val="000000"/>
                </a:solidFill>
                <a:latin typeface="Georgia"/>
              </a:rPr>
              <a:t>, rappresentanti della città nei vari porti del Mediterrane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1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1000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Crociate e svilupp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Svolsero un ruolo importantissimo nel corso delle crociat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esse gestivano e controllavano qualsiasi movimento di merci e di persone all’interno del Mediterraneo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Mettevano a disposizione dei crociati le navi, le rifornivano di cib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Prestavano denar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Nonostante il fallimento militare delle crociate, queste città ricavarono grandi guadagni ed ebbero in questo periodo il loro massimo splendo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Città di guerra e di commerc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eorgia"/>
              </a:rPr>
              <a:t>Le repubbliche marinare nascono per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difendersi dagli attacchi dei pirati saraceni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contrastare il dominio degli arabi sul Mediterraneo</a:t>
            </a:r>
            <a:r>
              <a:rPr b="0" lang="it-IT" sz="25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Georgia"/>
              </a:rPr>
              <a:t>Nel tempo, esse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stabiliscono stazioni commerciali in tutto il Mediterrane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entrano in rapporto con il mondo arabo e l’impero bizantin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diventano il tramite degli scambi commerciali tra Europa occidentale e Mediterraneo arabo-bizantin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10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1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Amalf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6500880" y="1428840"/>
            <a:ext cx="2381040" cy="1895400"/>
          </a:xfrm>
          <a:prstGeom prst="rect">
            <a:avLst/>
          </a:prstGeom>
          <a:ln w="0">
            <a:noFill/>
          </a:ln>
        </p:spPr>
      </p:pic>
      <p:sp>
        <p:nvSpPr>
          <p:cNvPr id="635" name="CasellaDiTesto 6"/>
          <p:cNvSpPr/>
          <p:nvPr/>
        </p:nvSpPr>
        <p:spPr>
          <a:xfrm>
            <a:off x="142920" y="1052640"/>
            <a:ext cx="8858160" cy="53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La prima città italiana ad afferma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sui mari fu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Amalfi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in Campania; 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importava tessuti dall’Or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vi esportava olio d’ol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Amalfi ebbe relazioni soprattutto con Costantinopoli e l’Egi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Emanò le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Tavole Amalfitane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un codice di diritto nautico usato nel Mediterraneo fino al XVI secolo. Serviva per regolamentare la navigazione, i rapporti tra i marinai e i mercanti, i problemi legati ai commer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Gli Amalfitani usarono per primi la</a:t>
            </a:r>
            <a:r>
              <a:rPr b="0" lang="it-IT" sz="2400" spc="-1" strike="noStrike">
                <a:solidFill>
                  <a:srgbClr val="ff0000"/>
                </a:solidFill>
                <a:latin typeface="Georgia"/>
              </a:rPr>
              <a:t> bussola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(inventata dai Cinesi, importata nel Mediterraneo dagli Ara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lick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malfi fu conquistata dai Normanni nel XII sec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Da allora Genovesi e Pisani l’attaccarono e saccheggiarono più volte dando così inizio alla sua decadenz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 thruBlk="true"/>
    <p:sndAc>
      <p:stSnd>
        <p:snd r:embed="rId1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isa e Genov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CasellaDiTesto 6"/>
          <p:cNvSpPr/>
          <p:nvPr/>
        </p:nvSpPr>
        <p:spPr>
          <a:xfrm>
            <a:off x="142920" y="1285920"/>
            <a:ext cx="900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Dopo Amalfi, acquisirono importanza le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di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Pisa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in Toscana, e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Genova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, in Liguria; 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sottrassero ai Saraceni le isole del Tirreno e le Balea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successivamente si scontrarono nella </a:t>
            </a:r>
            <a:r>
              <a:rPr b="0" lang="it-IT" sz="2400" spc="-1" strike="noStrike">
                <a:solidFill>
                  <a:srgbClr val="a9432b"/>
                </a:solidFill>
                <a:latin typeface="Georgia"/>
              </a:rPr>
              <a:t>Battaglia della Meloria </a:t>
            </a: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(1284), vinta dai genove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6357960" y="1357200"/>
            <a:ext cx="2619360" cy="17496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2"/>
          <a:stretch/>
        </p:blipFill>
        <p:spPr>
          <a:xfrm>
            <a:off x="6372360" y="4343400"/>
            <a:ext cx="2557440" cy="17287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p:transition spd="med">
    <p:fade thruBlk="true"/>
    <p:sndAc>
      <p:stSnd>
        <p:snd r:embed="rId3" name="click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1000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23:21Z</dcterms:created>
  <dc:creator>Contu</dc:creator>
  <dc:description/>
  <dc:language>en-US</dc:language>
  <cp:lastModifiedBy>raffaella</cp:lastModifiedBy>
  <dcterms:modified xsi:type="dcterms:W3CDTF">2013-04-07T19:04:04Z</dcterms:modified>
  <cp:revision>28</cp:revision>
  <dc:subject/>
  <dc:title>Le repubbliche marinare</dc:title>
</cp:coreProperties>
</file>